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4.png" ContentType="image/png"/>
  <Override PartName="/ppt/media/image2.png" ContentType="image/png"/>
  <Override PartName="/ppt/media/image3.png" ContentType="image/png"/>
  <Override PartName="/ppt/media/image5.pct" ContentType="image/x-pict"/>
  <Override PartName="/ppt/media/image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80DB7-5E31-4000-879D-14A2292CD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e cleaness and how the blue seems to bring things together and take away from it being too dull. Like the rounded corners as it makes the UI more friendly and the black does not look to heav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CF432-BF32-4CFE-BFA5-D27EEB00F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E3257-46BB-4547-BA14-AF047B93E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3921B-8669-40CF-8029-677A8DF30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E088C-783F-48DB-B99C-EB5952D39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12CA6-8EDE-4C3C-8F64-721A0BFDC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35B12-03F3-403A-ABA6-474C8D027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090AD-4F2F-4FDA-B49F-8C82950F0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32565-6C8A-488E-BF9D-656D54352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A1933-1EBB-48F4-BABE-29E2F76A3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DAF57-5028-4177-B483-ABBA17A11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52F80-B5BC-4F6A-8355-08EC5DE8A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0863D-8F5B-4A94-9FC0-C9A1AD97D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CF15C-EED8-4701-A14C-91B015D06A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te Design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ocument contains screens from sites and UI that we lik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 Design</a:t>
            </a:r>
            <a:endParaRPr b="0" lang="en-US" sz="4400" spc="-1" strike="noStrike">
              <a:solidFill>
                <a:srgbClr val="000000"/>
              </a:solidFill>
              <a:latin typeface="Arial"/>
            </a:endParaRPr>
          </a:p>
        </p:txBody>
      </p:sp>
      <p:pic>
        <p:nvPicPr>
          <p:cNvPr id="51" name="" descr=""/>
          <p:cNvPicPr/>
          <p:nvPr/>
        </p:nvPicPr>
        <p:blipFill>
          <a:blip r:embed="rId1"/>
          <a:stretch/>
        </p:blipFill>
        <p:spPr>
          <a:xfrm>
            <a:off x="2362320" y="1600200"/>
            <a:ext cx="4535280" cy="510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133720" y="457200"/>
            <a:ext cx="4411440" cy="585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752480" y="304920"/>
            <a:ext cx="5283360" cy="624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828800" y="609480"/>
            <a:ext cx="5597640" cy="582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990720" y="1371600"/>
            <a:ext cx="689112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905120" y="838080"/>
            <a:ext cx="504828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9T14:50:39Z</dcterms:created>
  <dc:creator>John  Horsley</dc:creator>
  <dc:description/>
  <dc:language>en-US</dc:language>
  <cp:lastModifiedBy>John  Horsley</cp:lastModifiedBy>
  <dcterms:modified xsi:type="dcterms:W3CDTF">2011-01-29T17:03:21Z</dcterms:modified>
  <cp:revision>2</cp:revision>
  <dc:subject/>
  <dc:title>Site Designs</dc:title>
</cp:coreProperties>
</file>